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drumroll.wav" ContentType="audio/x-wav"/>
  <Override PartName="/ppt/media/applause.wav" ContentType="audio/x-wav"/>
  <Override PartName="/ppt/media/image5.jpeg" ContentType="image/jpeg"/>
  <Override PartName="/ppt/media/image6.png" ContentType="image/png"/>
  <Override PartName="/ppt/media/image14.wmf" ContentType="image/x-wmf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AE3-59C9-4609-AD16-24CAC2C29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3D8-A31B-4EAA-AF3C-26365E82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46C-BB79-4B8A-9388-ED61804FE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693-5CFE-4ED7-B83A-942EF6BE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494-9CCD-4BCF-BCE2-EB17CB46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045-9D85-4CCB-94AD-8277595E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AA3-AB94-4B98-8411-1A4E741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7D1C-7DEE-427C-82FA-43BAEE67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7C72-4260-4819-A52D-8146B93E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EBD-CA82-4297-BA17-BD69ACD8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4B1-69F8-4F0A-B4BF-10D80A8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648-019B-4B61-9B03-768E3CF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13D1-6A70-4EF6-A1D6-BEBE105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762-F649-41F5-A885-B2A5A37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CD1-078C-4530-9213-014D128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B49-6130-48B3-9AA1-D5C4E5B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B2B-E98B-4FB6-ADB2-FF812302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D27-63A5-498F-98E8-D770A8F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CD6F-10EE-4836-879F-B0930402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B49-1E66-4A51-A88A-02DA4278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28EC-5874-4AA1-B2E8-D6318B2F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FFE3-E8F6-4A02-B11B-0CF09725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844C-BDEF-4964-B526-0B74C64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5E8B-25D2-4E1B-8A2A-CC858D9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A939-FB23-42CB-ACA0-B5F44C0B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4D2-6B97-489A-AEC0-ED49114B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C268-5D02-4A29-BD95-2A96B6C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42FD-8735-47D5-9E12-C91DD36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5713-DBD6-4F1F-A24D-EEACB21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C2D3-0207-4547-B3A1-D621F5B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B084-2D6C-445B-8D13-CD2B4D8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9412-9A9F-4861-A011-8E20163B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A4DA-2A78-4D3A-AECD-C39A5FBE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8C7C-088E-43BD-B686-D9C7E665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CE3C-0CE5-4AF3-8F0A-E492D0F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E7FA-9DA2-40F4-84CE-764071E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00D-C80C-4DB4-BFB2-C25EE5E1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05F2-EF13-4157-926B-61C9C24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7B4B-0419-4793-A3F7-9B48D74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1594-BE5A-4398-B2C0-1B483ECB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FC19-1039-46F6-9538-1511764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344C-9755-4986-AFF1-7E35934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3987-F002-484D-BB41-D4AFF2B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BA4E-215E-475F-9068-DB0CFE6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5AF3-7EE2-4935-A872-FE314C6A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1406-8CF3-43DD-A570-27D7F500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E6CE9-FDFF-4016-BE64-2C426964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A57-8363-49C7-9A49-26BF312F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A821-5EC0-47E4-A333-B2F6CFD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8FC9-8745-4B1E-8FD4-AACD464A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46B0-B176-424A-A349-EF2C7370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FDB5-C6C8-4329-9EBB-57814356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1781-67DC-49D3-864F-1B5D5C9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04E3-A24C-448E-BD7E-E13775F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1176-3566-4966-ADCF-633AF4A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0A23-DE03-48AB-83A9-39F14E8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EBC8-20B2-4085-AC1F-AE4AA5B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5C67-2E8F-47A1-9F3E-9D894F70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44B-166C-4E53-9E6E-220428D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199E-ACED-4D90-95BE-86F5435E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252-5052-4AA3-AF91-5949FEB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389-F616-400F-B8CF-0B0639C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D22-79C6-48F5-BDA2-0000F28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9C87-7ACA-4A0C-91B1-A8143BA0664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4FB-0AFD-482E-86D0-0CBE7E66DB3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1D97-14EA-4D6A-9B3D-ADD623701BB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461-8C4A-4D9B-A650-A0B33BA8DE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8F6-1D8E-443E-8437-94A4F807FC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4343400" cy="129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The rainforest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By Lizeth , Manu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www.brazadv.com/brazil-altitudinal-zone/lowland.jpg"/>
          <p:cNvPicPr/>
          <p:nvPr/>
        </p:nvPicPr>
        <p:blipFill>
          <a:blip r:embed="rId1"/>
          <a:stretch/>
        </p:blipFill>
        <p:spPr>
          <a:xfrm>
            <a:off x="1905120" y="1600200"/>
            <a:ext cx="596556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42800" y="495360"/>
            <a:ext cx="8258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angal Bambo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http://www.mobot.org/hort/images/Clim1-1.jpg"/>
          <p:cNvPicPr/>
          <p:nvPr/>
        </p:nvPicPr>
        <p:blipFill>
          <a:blip r:embed="rId2"/>
          <a:stretch/>
        </p:blipFill>
        <p:spPr>
          <a:xfrm>
            <a:off x="457200" y="1371600"/>
            <a:ext cx="4495680" cy="3886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5257800" y="9144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ngal Bamboo likes temperature between 40 degrees ferenh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5000760" y="190512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amboo can live 24 to 4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334120" y="2286000"/>
            <a:ext cx="37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grows in the south asian 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5562720" y="2590920"/>
            <a:ext cx="29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grows 100 inches per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5410080" y="289548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andas eat the bamb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8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he Kapok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4" descr="http://www.mongabay.com/images/2005/kapok_side_view.jpg"/>
          <p:cNvPicPr/>
          <p:nvPr/>
        </p:nvPicPr>
        <p:blipFill>
          <a:blip r:embed="rId1"/>
          <a:stretch/>
        </p:blipFill>
        <p:spPr>
          <a:xfrm>
            <a:off x="533520" y="914400"/>
            <a:ext cx="3276360" cy="464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742920" y="11430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grows in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886200" y="1447920"/>
            <a:ext cx="362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diemiters it can reach 9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grow up to 150 feet towering the other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pe is silind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is body color is pinkwish, and ashi brom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35053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The Jambu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538960" y="1447560"/>
            <a:ext cx="269064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240" y="1371600"/>
            <a:ext cx="5111640" cy="4572000"/>
          </a:xfrm>
          <a:prstGeom prst="rect">
            <a:avLst/>
          </a:prstGeom>
          <a:solidFill>
            <a:srgbClr val="73db2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grows up to 2 or 10 i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 petals color are yellow wh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grows in the South Indian rainfo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looks like a small tree or shru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 skin is white and light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lowerpicturegallery.com/d/9825-2/close+up+photo+of+purple+hydrangea+flower.JPG"/>
          <p:cNvPicPr/>
          <p:nvPr/>
        </p:nvPicPr>
        <p:blipFill>
          <a:blip r:embed="rId1"/>
          <a:stretch/>
        </p:blipFill>
        <p:spPr>
          <a:xfrm>
            <a:off x="685800" y="1828800"/>
            <a:ext cx="2797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116888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he coconut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5029560"/>
            <a:ext cx="3930480" cy="121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conut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2880" y="5638320"/>
            <a:ext cx="3625920" cy="38124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65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y can produce 50 cocon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coconut_tree.jpg"/>
          <p:cNvPicPr/>
          <p:nvPr/>
        </p:nvPicPr>
        <p:blipFill>
          <a:blip r:embed="rId1"/>
          <a:stretch/>
        </p:blipFill>
        <p:spPr>
          <a:xfrm>
            <a:off x="1371600" y="1523880"/>
            <a:ext cx="2743200" cy="348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evsgrow up to 15 to 17 f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t can be used for candy, cookies, and p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mats, baskets, and hats are made by their leaf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be found in Hawaii, tip of Florida,and Puertor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51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-914400">
              <a:buClr>
                <a:srgbClr val="ffc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Verdana"/>
              </a:rPr>
              <a:t>Toco Tuca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http://2.bp.blogspot.com/_J_nfK3K6h5E/S4Ia2-8SybI/AAAAAAAABcI/EAcqkKwYH1w/s400/Toco+Toucan.jpg"/>
          <p:cNvPicPr/>
          <p:nvPr/>
        </p:nvPicPr>
        <p:blipFill>
          <a:blip r:embed="rId1"/>
          <a:stretch/>
        </p:blipFill>
        <p:spPr>
          <a:xfrm>
            <a:off x="0" y="182880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3"/>
          <p:cNvSpPr/>
          <p:nvPr/>
        </p:nvSpPr>
        <p:spPr>
          <a:xfrm>
            <a:off x="4211640" y="2133720"/>
            <a:ext cx="463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is peak  colors are  ligjht blue, yellow, 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nd orange it does not  fly very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is 25 inches 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 eats fruit, seeds, and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leys 2-4 shiny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belongs in a group named f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They talk to each other  by making no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35812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kink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http://www.settlerspondshelter.net/Images/SponsorKINKAJOU.jpg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504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4572000" y="13716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indians gave his name. It means Honey Bear. They named him like that because it loves h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lives in the canopy of the rainfo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has sharpy c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eats fruit,insects,and necta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a am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The bangal tiger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0" y="1782720"/>
            <a:ext cx="3930480" cy="64468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7" descr="bengal-tiger-pictures_2.jpg"/>
          <p:cNvPicPr/>
          <p:nvPr/>
        </p:nvPicPr>
        <p:blipFill>
          <a:blip r:embed="rId1"/>
          <a:stretch/>
        </p:blipFill>
        <p:spPr>
          <a:xfrm>
            <a:off x="533520" y="2514600"/>
            <a:ext cx="4039920" cy="2743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800240" y="18284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 carniv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can waigh up to 575 po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eats monkeys,white doc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e hunts intill it is 8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can be found in a lot of regons like India ,china,and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90560" y="60912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boo Fruit D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8040" y="14475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eighs about 1.5 ou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 wings are between 3-6 in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’s purple in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makes his nest with twigs, roots and gr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eat fruit from t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2" descr="http://www.blueplanetbiomes.org/images/jambu_frdove.jpg"/>
          <p:cNvPicPr/>
          <p:nvPr/>
        </p:nvPicPr>
        <p:blipFill>
          <a:blip r:embed="rId1"/>
          <a:stretch/>
        </p:blipFill>
        <p:spPr>
          <a:xfrm>
            <a:off x="5105520" y="1600200"/>
            <a:ext cx="3012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20:20:08Z</dcterms:created>
  <dc:creator>user</dc:creator>
  <dc:description/>
  <dc:language>en-US</dc:language>
  <cp:lastModifiedBy>user</cp:lastModifiedBy>
  <dcterms:modified xsi:type="dcterms:W3CDTF">2011-03-24T21:43:59Z</dcterms:modified>
  <cp:revision>40</cp:revision>
  <dc:subject/>
  <dc:title>The rainforest</dc:title>
</cp:coreProperties>
</file>